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95483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552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4020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Y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50560" y="698040"/>
            <a:ext cx="465300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Y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8975-3DA3-4A9D-9F9C-C8C75FA7CEBF}" type="slidenum">
              <a:rPr b="0" lang="es-P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3 Marcador de número de diapositiva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5803-B090-4EAD-9E93-FD02B7819B3C}" type="slidenum">
              <a:rPr b="0" lang="es-PY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3 Marcador de número de diapositiva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1F5B-C637-48B2-8C17-77A9245A4EB0}" type="slidenum">
              <a:rPr b="0" lang="es-PY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Marcador de número de diapositiva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6EA7-08E3-4740-88FC-9F8A7929A560}" type="slidenum">
              <a:rPr b="0" lang="es-PY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F787-F001-4D06-8725-63DC9F443C21}" type="slidenum">
              <a:rPr b="0" lang="es-PY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C078-E895-42B4-8EE9-FF6E4D3F7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DBA1-B848-4475-8326-45276277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7CF0-8D03-48E1-8B26-DD9173CB0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9969-8200-418C-B949-8948E110E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16073-D362-4CA0-8307-CE956776D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1090-9041-41E8-BB90-78EAD450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D931-FC4D-48AB-BEB5-53EB21D3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FE36-DE0F-409B-9BB4-95C3CE1F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604C-8AF2-4935-96B7-6482A361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9E4D3-3E0B-46F9-B72C-346735AD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3372-81C4-4212-B904-66483FA2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605D-30D9-4B73-83D2-0FEF3F45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C4A3A-5364-493E-A706-4F912D43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08230-7032-46FF-8F9B-C08AFB43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0B143-768B-40B3-9704-60E51EB0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F3F5-5006-48D0-A7C7-1FD52D6B5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A8EE-C87C-4AA4-92C3-757A05AA4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7B52-C6B1-4E42-BCD0-44C02CF9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EF33-3E3B-4C67-B7E4-E822EBDE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A822-272D-43D5-B642-057DCBA2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171D-7D13-4404-AFAB-9A7FD1F1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3841-A742-4354-805A-052A6729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9643-2A46-48E9-AF46-4CDFEFA7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3B95-93C0-42E2-B6A7-40323889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Y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Y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76A9-D669-41FB-A550-1CB3CBAB5DD7}" type="slidenum">
              <a:rPr b="0" lang="es-PY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Y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Y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9F51-3F69-4B1A-8DE5-2023897324ED}" type="slidenum">
              <a:rPr b="0" lang="es-PY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3 CuadroTexto"/>
          <p:cNvSpPr/>
          <p:nvPr/>
        </p:nvSpPr>
        <p:spPr>
          <a:xfrm>
            <a:off x="539640" y="292428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Book Antiqua"/>
                <a:ea typeface="Arial"/>
              </a:rPr>
              <a:t>MUSEO DE LA JUSTICIA, CENTRO DE DOCUMENTACION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Book Antiqua"/>
                <a:ea typeface="Arial"/>
              </a:rPr>
              <a:t>Y ARCHIVO PARA LA DEFENSA DE LOS DERECHOS HUMANO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4 CuadroTexto"/>
          <p:cNvSpPr/>
          <p:nvPr/>
        </p:nvSpPr>
        <p:spPr>
          <a:xfrm>
            <a:off x="1258920" y="465300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ffff"/>
                </a:solidFill>
                <a:latin typeface="Book Antiqua"/>
                <a:ea typeface="Arial"/>
              </a:rPr>
              <a:t>Informe de Gestión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ffff"/>
                </a:solidFill>
                <a:latin typeface="Book Antiqua"/>
                <a:ea typeface="Arial"/>
              </a:rPr>
              <a:t>Enero – noviembre  2016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1" name="9 Imagen" descr=""/>
          <p:cNvPicPr/>
          <p:nvPr/>
        </p:nvPicPr>
        <p:blipFill>
          <a:blip r:embed="rId1"/>
          <a:stretch/>
        </p:blipFill>
        <p:spPr>
          <a:xfrm>
            <a:off x="4702320" y="1216080"/>
            <a:ext cx="1439640" cy="1201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1042920" y="1230480"/>
            <a:ext cx="2057400" cy="1187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3"/>
          <a:stretch/>
        </p:blipFill>
        <p:spPr>
          <a:xfrm>
            <a:off x="3100320" y="1216080"/>
            <a:ext cx="1625760" cy="1201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4"/>
          <a:stretch/>
        </p:blipFill>
        <p:spPr>
          <a:xfrm>
            <a:off x="6165720" y="1216080"/>
            <a:ext cx="1624320" cy="120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4 CuadroTexto"/>
          <p:cNvSpPr/>
          <p:nvPr/>
        </p:nvSpPr>
        <p:spPr>
          <a:xfrm>
            <a:off x="250920" y="620640"/>
            <a:ext cx="8642160" cy="35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Book Antiqua"/>
                <a:ea typeface="Arial"/>
              </a:rPr>
              <a:t>1.</a:t>
            </a:r>
            <a:r>
              <a:rPr b="1" lang="es-MX" sz="1800" spc="-1" strike="noStrike">
                <a:solidFill>
                  <a:srgbClr val="ffffff"/>
                </a:solidFill>
                <a:latin typeface="Book Antiqua"/>
                <a:ea typeface="Arial"/>
              </a:rPr>
              <a:t>	</a:t>
            </a:r>
            <a:r>
              <a:rPr b="1" lang="es-MX" sz="18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De las actividades  administrativas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Calibri"/>
                <a:ea typeface="Arial"/>
              </a:rPr>
              <a:t>El Centro – Museo  enmarca sus objetivos en tres acciones fundamentales a saber:  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Calibri"/>
                <a:ea typeface="Arial"/>
              </a:rPr>
              <a:t>i) Gerenciadora;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1" lang="es-MX" sz="14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Calibri"/>
                <a:ea typeface="Arial"/>
              </a:rPr>
              <a:t>ii) Apoyo Jurisdiccional y,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Calibri"/>
                <a:ea typeface="Arial"/>
              </a:rPr>
              <a:t>iii) Formadora y  Difusora  de la información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1" lang="es-MX" sz="14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Calibri"/>
                <a:ea typeface="Arial"/>
              </a:rPr>
              <a:t>Su acervo, los documentos  policiales hallados entre diciembre de 1992  y </a:t>
            </a:r>
            <a:r>
              <a:rPr b="1" lang="es-MX" sz="14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Calibri"/>
                <a:ea typeface="Arial"/>
              </a:rPr>
              <a:t>enero de 1993 </a:t>
            </a:r>
            <a:r>
              <a:rPr b="1" lang="es-MX" sz="14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Calibri"/>
                <a:ea typeface="Arial"/>
              </a:rPr>
              <a:t>fotocopiados y autenticados,  permite  a las víctimas y/o familiares de víctimas  acceder a   la 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Calibri"/>
                <a:ea typeface="Arial"/>
              </a:rPr>
              <a:t>reparación económica  que por Ley de la Nación les corresponde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Calibri"/>
                <a:ea typeface="Arial"/>
              </a:rPr>
              <a:t>Puede apreciarse en el cuadro siguiente, que de enero al 15 de noviembre se han recibido en total 488 solicitudes según detalle: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Book Antiqua"/>
                <a:ea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Book Antiqua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547640" y="3789360"/>
          <a:ext cx="6237360" cy="2232000"/>
        </p:xfrm>
        <a:graphic>
          <a:graphicData uri="http://schemas.openxmlformats.org/drawingml/2006/table">
            <a:tbl>
              <a:tblPr/>
              <a:tblGrid>
                <a:gridCol w="2033640"/>
                <a:gridCol w="1427400"/>
                <a:gridCol w="1455480"/>
                <a:gridCol w="1320840"/>
              </a:tblGrid>
              <a:tr h="367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olicitudes retirada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olicitudes no retirada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bsercació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44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edidoos particular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8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7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ista de 98 persona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202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edidos de Fiscalí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67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edidos - Defensoría del Puebl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202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olicía Naciona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201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Dirección de Verdad y Justici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44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ría. De D.H. Argentin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ista de 91 persona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201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7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6836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Calibri"/>
              </a:rPr>
              <a:t>Durante el mismo período se tiene registro de documentos autenticados para su presentación en la Defensoría del Pueblo; atención  y entrega de documentos a investigadores que realizaron consultas en las Bases de Datos; se dio respuesta a pedidos realizados desde el extranjero enviando documentos vía mail; se recibió a delegaciones estudiantiles nivel medio y universitarios (promedio de 35 personas por delegaciones)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1364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Calibri"/>
              </a:rPr>
              <a:t>Cabe destacar que visitaron el Centro-Museo importantes personalidades como Magistrados extranjeros, la Directora Ejecutiva de la Unesco, artistas plásticos, y productores de importantes programas televisión nacionales e internacionales. 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1364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MX" sz="1400" spc="-1" strike="noStrike">
                <a:solidFill>
                  <a:srgbClr val="ffffff"/>
                </a:solidFill>
                <a:latin typeface="Calibri"/>
              </a:rPr>
              <a:t>En conclusión se calcula que en el transcurso de este año, el Centro – Museo recibió y brindó información aproximadamente a 3250 personas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1364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Calibri"/>
              </a:rPr>
              <a:t>Finalmente, el Centro–Museo colabora con la Secretaria de Género sistematizando de los formularios  de Violencia Doméstica remitidos desde los Juzgados de Paz. 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1364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13644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13644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136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332000" y="3284640"/>
          <a:ext cx="6335640" cy="2952720"/>
        </p:xfrm>
        <a:graphic>
          <a:graphicData uri="http://schemas.openxmlformats.org/drawingml/2006/table">
            <a:tbl>
              <a:tblPr/>
              <a:tblGrid>
                <a:gridCol w="2027160"/>
                <a:gridCol w="1422360"/>
                <a:gridCol w="1451160"/>
                <a:gridCol w="1434960"/>
              </a:tblGrid>
              <a:tr h="46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olicitudes retirada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olicitudes no retirada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bsercació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253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utenticación de Documento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0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254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edidos de Investigador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253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edidos vía mai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254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4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253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459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tención y Charlas a visitant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7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romedio 35 persona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763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istematización de Formularios V.D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005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orrespondiente a diferentes años, según recepció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54936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136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alibri"/>
              </a:rPr>
              <a:t>Desde hace 2 años iniciamos la conformación de la Biblioteca y Videoteca del Centro – Museo, con materiales donados por investigadores e instituciones de Derechos Humanos. A fin de poner a disposición de los usuarios, los documentos son sometidos a un tratamiento documental que permite registrarlos y sistematizarlos para posteriormente elaborar y mantener actualizado del catálogo. Los materiales bibliográficos y audiovisuales pueden  ser consultados en la oficina</a:t>
            </a:r>
            <a:r>
              <a:rPr b="0" lang="es-MX" sz="12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136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1364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Calibri"/>
              </a:rPr>
              <a:t>Otras acciones son las invitaciones y presencia de representantes del Centro–Museo a nivel  nacional  e internacional, en Seminarios, Conferencias y Encuentros. 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1364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1364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MX" sz="1400" spc="-1" strike="noStrike">
                <a:solidFill>
                  <a:srgbClr val="ffffff"/>
                </a:solidFill>
                <a:latin typeface="Calibri"/>
              </a:rPr>
              <a:t>i)  </a:t>
            </a:r>
            <a:r>
              <a:rPr b="0" lang="es-MX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1400" spc="-1" strike="noStrike">
                <a:solidFill>
                  <a:srgbClr val="ffffff"/>
                </a:solidFill>
                <a:latin typeface="Calibri"/>
              </a:rPr>
              <a:t>Marzo: Participación en el Seminario Taller realizado por Memoria Abierta en Buenos Aires </a:t>
            </a:r>
            <a:r>
              <a:rPr b="0" lang="es-MX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1400" spc="-1" strike="noStrike">
                <a:solidFill>
                  <a:srgbClr val="ffffff"/>
                </a:solidFill>
                <a:latin typeface="Calibri"/>
              </a:rPr>
              <a:t>Argentina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1364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1364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Calibri"/>
              </a:rPr>
              <a:t>ii) </a:t>
            </a:r>
            <a:r>
              <a:rPr b="0" lang="es-MX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1400" spc="-1" strike="noStrike">
                <a:solidFill>
                  <a:srgbClr val="ffffff"/>
                </a:solidFill>
                <a:latin typeface="Calibri"/>
              </a:rPr>
              <a:t>Mayo: Reunión de MERCOSUR. Comisión de Derechos Humanos. Realizado en Montevideo, </a:t>
            </a:r>
            <a:r>
              <a:rPr b="0" lang="es-MX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1400" spc="-1" strike="noStrike">
                <a:solidFill>
                  <a:srgbClr val="ffffff"/>
                </a:solidFill>
                <a:latin typeface="Calibri"/>
              </a:rPr>
              <a:t>Uruguay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1364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1364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Calibri"/>
              </a:rPr>
              <a:t>iii) </a:t>
            </a:r>
            <a:r>
              <a:rPr b="0" lang="es-MX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1400" spc="-1" strike="noStrike">
                <a:solidFill>
                  <a:srgbClr val="ffffff"/>
                </a:solidFill>
                <a:latin typeface="Calibri"/>
              </a:rPr>
              <a:t>Junio: Participación en el Congreso de Trabajadores de Sao Paulo «Verdad, Justicia y reparación», </a:t>
            </a:r>
            <a:r>
              <a:rPr b="0" lang="es-MX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1400" spc="-1" strike="noStrike">
                <a:solidFill>
                  <a:srgbClr val="ffffff"/>
                </a:solidFill>
                <a:latin typeface="Calibri"/>
              </a:rPr>
              <a:t>organizado por la CUT-INTERNACIONAL. Sao Paulo, Brasil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1364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1364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Calibri"/>
              </a:rPr>
              <a:t>iv)</a:t>
            </a:r>
            <a:r>
              <a:rPr b="0" lang="es-MX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1400" spc="-1" strike="noStrike">
                <a:solidFill>
                  <a:srgbClr val="ffffff"/>
                </a:solidFill>
                <a:latin typeface="Calibri"/>
              </a:rPr>
              <a:t>Agosto: Conferencia sobre Historia Reciente paraguaya. Organizado por los alumnos del Colegio </a:t>
            </a:r>
            <a:r>
              <a:rPr b="0" lang="es-MX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1400" spc="-1" strike="noStrike">
                <a:solidFill>
                  <a:srgbClr val="ffffff"/>
                </a:solidFill>
                <a:latin typeface="Calibri"/>
              </a:rPr>
              <a:t>Santa Elena. Asunción, Paraguay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1364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Calibri"/>
              </a:rPr>
              <a:t>v)</a:t>
            </a:r>
            <a:r>
              <a:rPr b="0" lang="es-MX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1400" spc="-1" strike="noStrike">
                <a:solidFill>
                  <a:srgbClr val="ffffff"/>
                </a:solidFill>
                <a:latin typeface="Calibri"/>
              </a:rPr>
              <a:t>Agosto: Jornada por los Derechos Humanos realizada en la Universidad Columbia. Asunción, </a:t>
            </a:r>
            <a:r>
              <a:rPr b="0" lang="es-MX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1400" spc="-1" strike="noStrike">
                <a:solidFill>
                  <a:srgbClr val="ffffff"/>
                </a:solidFill>
                <a:latin typeface="Calibri"/>
              </a:rPr>
              <a:t>Paraguay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1364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Calibri"/>
              </a:rPr>
              <a:t>vi)</a:t>
            </a:r>
            <a:r>
              <a:rPr b="0" lang="es-MX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1400" spc="-1" strike="noStrike">
                <a:solidFill>
                  <a:srgbClr val="ffffff"/>
                </a:solidFill>
                <a:latin typeface="Calibri"/>
              </a:rPr>
              <a:t>Día Internacional del Acceso a la información como Derecho Humano. Asunción, Paraguay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5T14:56:13Z</dcterms:created>
  <dc:creator>Rosa Palau</dc:creator>
  <dc:description/>
  <dc:language>en-US</dc:language>
  <cp:lastModifiedBy>Luis Alberto Ruiz Diaz</cp:lastModifiedBy>
  <cp:lastPrinted>2015-11-30T14:24:36Z</cp:lastPrinted>
  <dcterms:modified xsi:type="dcterms:W3CDTF">2017-02-21T15:47:37Z</dcterms:modified>
  <cp:revision>79</cp:revision>
  <dc:subject/>
  <dc:title>Presentación de PowerPoint</dc:title>
</cp:coreProperties>
</file>